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7E5-5FEE-4B7D-978D-8C0F1961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B4E-B33E-4BAB-B8BE-E3110E48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3BF-2303-4CD0-AFDA-B3D173CD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718-4957-454F-9D0C-2CCE4437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997-1265-4D55-906E-C22495DC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8E3-8293-498F-BD7C-46190032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619-66A3-4B8E-B31D-5A11483F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17E-6585-4D81-BAAD-F81183F9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BAA-0550-43D1-8757-8F6F5C79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36B-634C-46CC-AFB4-08830BE4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612-0BD0-4B34-99CA-AA89DFE4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1D6-202F-4CE1-A95B-068834A7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3CBFC4-1951-4F31-ADA0-0F572C5A09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arthy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E. Pop Culture in the Cold War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ld War themes in film, television, music, and popular fi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Crucibl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y cases popular in film and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“Atomic Boogie” and “Atomic Bomb Bab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rosh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9760" y="179280"/>
            <a:ext cx="96012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Lesson Objective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students will be able to explain the Red S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students will be able to discuss McCarthyism and it's effects on Americ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tudents will be able to explain how the Cold War affected America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. McCarthyism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enator Joseph McCa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McCarthy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Unfair tactic of accusing people of disloyalty without providing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ep. did not stop him thinking it would help win 1952 presidenti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86400" y="18288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B. McCarran Ac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KA: Internal Securi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llegal to establish a totalitarian government in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ommunists needed to publish their records and register w/US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. McCarthy's Downfall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ccusations of Communists in the US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upport from the public began to f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ear and power wa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ied in 19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0"/>
            <a:ext cx="54864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97200" y="63360"/>
            <a:ext cx="5875200" cy="748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6880" y="63360"/>
            <a:ext cx="6462720" cy="748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D. Facing the Bomb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ear of Communism and nuclear war affected America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viets test the H-bomb in 195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“Duck and Cover” dr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omb she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rills would not keep people completely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allout would ki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8:49:40Z</dcterms:created>
  <dc:creator>Courtney Huro</dc:creator>
  <dc:description>Presentation Layout Template</dc:description>
  <dc:language>en-US</dc:language>
  <cp:lastModifiedBy>School District U46</cp:lastModifiedBy>
  <dcterms:modified xsi:type="dcterms:W3CDTF">2011-02-24T13:32:05Z</dcterms:modified>
  <cp:revision>3</cp:revision>
  <dc:subject/>
  <dc:title>Technical Polygon</dc:title>
</cp:coreProperties>
</file>